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C54-8DBD-4B3A-BC9D-9F05D636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EF2-D69C-4F5C-8441-F3A01D4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CAF-F216-468D-98A3-E3F2B575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4ED-D55F-47C3-8491-017E6979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90CD2-F4D8-45BA-ABEE-FC2CC422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60BCF-E711-4EF0-B4F5-4FF21C2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19107-89AA-448B-8F0F-4413D8C9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4AF3-3418-4BF8-8821-166927D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68D3-E4DF-4B1D-80A3-CB14954B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B4A2-D4F4-4136-8ED2-B2A41F26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A0F4-D6A1-4C05-B5DA-0682F3A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C54-2D24-4F05-9435-E2C14F1C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EB3B-9CA8-4C74-87B0-D1B9198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A5397-37D9-4232-AA46-A45A9AEF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6D0B9-382C-48F3-8CD4-72BF10C0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3EBE-6FCA-49B1-A470-CF4512C4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E1FB-944A-4386-ACD0-5C914F83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3E88-9643-4323-9A7A-3A43D60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DF07-E73E-4E2A-A9F9-D0DD637B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0AFA-D53A-455B-B8C3-901E47C3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9897-15A8-4F9C-A994-B5B8DAE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3F6F-6129-4EF0-A347-6BF7833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059-FF81-40F9-9DBC-046956E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0AC5-788D-4654-B802-4F8C717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EEA4-E381-4FEA-80E2-C050BBA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8303-367C-4202-B63A-B7C73C8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0EF7-FC29-4F4B-BDA4-BD6676D1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C7876-61FB-40D2-B4ED-F3E2DADF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FADA-10D0-4211-BB8C-A2DE16E1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FAE1-E77D-425B-8C06-5479EDB6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D1E5C-55EA-439A-913E-D32A30A8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76C52-F30E-407C-969F-FA3486F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1AE5E-E337-44DF-AAB0-FD9AC19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49E-9A79-491F-8533-8ACE5C9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C8213-B3E1-44CE-A67B-AF71946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0789D-ACB2-46D5-9C0B-F941C495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0B5AC-CA06-4229-AD19-81A127B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6BF5A-E9E4-4207-A7B1-5CE58E1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73977-408C-4791-AA18-B3AEB97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77892-69AA-4A83-8F5B-0C73209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588D4-E59F-4EF9-8418-010682C4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F4B19-FF91-4ABB-BD98-4EA30C0D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EDA27-5DB7-4AED-9AB2-E0154F0D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7F48D-9795-4C05-BFCB-DC119E12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6B3-5E5D-47FA-9096-E41E7850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31424-659A-469A-AD16-2B9187C2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D87F6-66AB-4232-877F-D20C16A4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2324D-6BE6-4D1F-BD09-ECF16E8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A9F09-BA38-41A7-BA18-9870292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0F3B4-1E4D-40F4-BB96-C92732D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AFDA1-74C5-4A42-9B4E-73F049E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4CC4C-06F7-4AC0-BC45-CF7F665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B8DD2-1F4E-4240-B3DF-DB0EA33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71186-6046-4FDB-A562-3BA7807E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E3613-9128-49C7-95F6-D5169252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673-B707-417E-90D4-57DC2F54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A1EF5-6A89-40B6-A5C8-C15A30D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17E8F-D6A4-4BE0-9F1A-135CB14F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B8144-42DE-4E6F-A348-DCE2E31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4D51A-A68D-498A-969E-559A6758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3F248-5947-46AF-8391-868433E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E62D9-6F5A-45AC-AA89-0449AAB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F24B0-DE31-45C9-8A2A-D56BF9E4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5146F-A255-46C8-89FF-9C0A8DA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FF966-1787-466D-BB63-213CF9B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8EE1C-5BC8-4098-A2BD-36846EB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78A-102D-4D0C-8AED-5828436A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40A62-D662-48A9-B80B-AE2813C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E3CED-ADA4-4B3C-937C-3DAB5541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CFDC0-32CB-4918-B4D2-C0D66ECC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BBE-E3EC-4D1B-8290-DB311DB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B8F-A26C-4D1A-B6FD-C8215F07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615-6AD0-4DA0-98F5-325311C3CB92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af0a"/>
          </a:solidFill>
          <a:ln w="38160">
            <a:solidFill>
              <a:srgbClr val="ccaf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4D3-C47A-4E81-A2CC-AE65404B99CB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074B-6088-4845-AA45-B24FC5A4079D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F3A-8ED6-4640-96B7-8FBAD7BBBDB8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1E5D-BD71-4503-88CB-7FAF7AC3B7E1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F2B0-6750-46D6-AB46-07A1BDA902C4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14880" y="4500720"/>
            <a:ext cx="45482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Автор: Нефедов Денис Евгеньевич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2428920" y="357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Методическая презентац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28760" y="356760"/>
            <a:ext cx="82864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1d1d"/>
                </a:solidFill>
                <a:uFillTx/>
                <a:latin typeface="Constantia"/>
              </a:rPr>
              <a:t>Основополагающий вопрос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Куда смотрит вектор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d1d1d"/>
                </a:solidFill>
                <a:uFillTx/>
                <a:latin typeface="Constantia"/>
              </a:rPr>
              <a:t>Проблемные вопросы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1. </a:t>
            </a:r>
            <a:r>
              <a:rPr b="0" i="1" lang="en-US" sz="2600" spc="-1" strike="noStrike">
                <a:solidFill>
                  <a:srgbClr val="1d1d1d"/>
                </a:solidFill>
                <a:latin typeface="Constantia"/>
              </a:rPr>
              <a:t>Сколько векторов до Луны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d1d1d"/>
                </a:solidFill>
                <a:latin typeface="Constantia"/>
              </a:rPr>
              <a:t>2. </a:t>
            </a:r>
            <a:r>
              <a:rPr b="0" i="1" lang="en-US" sz="2600" spc="-1" strike="noStrike">
                <a:solidFill>
                  <a:srgbClr val="1d1d1d"/>
                </a:solidFill>
                <a:latin typeface="Constantia"/>
              </a:rPr>
              <a:t>Как поделиться вектором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d1d1d"/>
                </a:solidFill>
                <a:latin typeface="Constantia"/>
              </a:rPr>
              <a:t>Учебные предметы: математика, физ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d1d1d"/>
                </a:solidFill>
                <a:latin typeface="Constantia"/>
              </a:rPr>
              <a:t>Участники: 8 клас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1d1d1d"/>
                </a:solidFill>
                <a:uFillTx/>
                <a:latin typeface="Constantia"/>
              </a:rPr>
              <a:t>Дидактические цели проекта: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Научить </a:t>
            </a: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строить вектора, находить длину вектора, находить координаты векторов, умножать вектор на число, складывать векторы, разлагать векторы, находить скалярное произведение векторов, находить середины вектора, находить угол между векторами</a:t>
            </a: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 </a:t>
            </a: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Сформировать навыки самостоятельной работы, работы в команде.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Воспитать организованность, самостоятельность, самоконтроль, ответственность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000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1d1d1d"/>
                </a:solidFill>
                <a:uFillTx/>
                <a:latin typeface="Constantia"/>
              </a:rPr>
              <a:t>Учебные вопросы: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то такое вектор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 найти длину вектора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то такое координаты вектора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ие векторы называются равными?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Какие операции над векторами существуют?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1d1d"/>
                </a:solidFill>
                <a:latin typeface="Constantia"/>
              </a:rPr>
              <a:t>Чему равен угол между векторами?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8400" y="1642680"/>
            <a:ext cx="82580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d1d1d"/>
                </a:solidFill>
                <a:uFillTx/>
                <a:latin typeface="Constantia"/>
              </a:rPr>
              <a:t>Результаты представления исследовани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Презентация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d1d1d"/>
                </a:solidFill>
                <a:latin typeface="Constantia"/>
              </a:rPr>
              <a:t>Конференция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4:47:47Z</dcterms:created>
  <dc:creator>26534</dc:creator>
  <dc:description/>
  <dc:language>en-US</dc:language>
  <cp:lastModifiedBy>26534</cp:lastModifiedBy>
  <dcterms:modified xsi:type="dcterms:W3CDTF">2010-04-16T04:42:30Z</dcterms:modified>
  <cp:revision>7</cp:revision>
  <dc:subject/>
  <dc:title>Слайд 1</dc:title>
</cp:coreProperties>
</file>